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726-722C-43B3-92B3-9D1B2855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8177-BF56-4E56-9BE6-5E0E28AE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9EED-8914-4B9A-8E7A-5C3F41FE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4693-5D8E-4CD2-8298-EC8F6E26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91859-4363-4F5E-82DE-5CAB69D0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E265B-DEB5-4ED3-9577-F48E5DD4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7FD57-CB20-4DD1-AAAD-B5A9456E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C555B-21B6-44E8-94C9-1CA1C8FA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D69B5-F1AB-4C25-A7F0-7F73681F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5ECE4-0503-406B-94B6-C765E9D1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A7259-5AB2-4E8D-84AC-FD287377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EB4-A307-4953-9B7C-519C2A18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264F5-EE0C-4081-966A-DFEC1746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F1F08-EF81-4D43-80BD-FB7B1DD1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DE010-072B-4166-9B39-3C451406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9E0CF-9198-49F6-ABBE-4A4F91CC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82675-CF53-4201-8053-A6E1FCEA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105-17AB-4B94-AD11-A4AC5256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110-D117-4215-9F57-07474257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8F36-24B5-41A7-AB49-3E8413BF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C22-8CEB-4356-AE6B-C11B7EA5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682-838D-48D1-8FFF-422056BF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670-7B3B-4606-8AA1-05CEF2D6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792-BB20-4296-AB09-B823013E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5F34-FA77-4395-AF26-6914E8AA13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5945-3EA2-4B18-AD10-5A919C4EBB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br>
              <a:rPr sz="6000"/>
            </a:br>
            <a:r>
              <a:rPr b="1" lang="de-CH" sz="2000" spc="-1" strike="noStrike">
                <a:solidFill>
                  <a:srgbClr val="ffffff"/>
                </a:solidFill>
                <a:latin typeface="Tahoma"/>
              </a:rPr>
              <a:t>by atlan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owerpoint by robocop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music by maliktrey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02120" y="1916280"/>
            <a:ext cx="290988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7612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0r w3 c@11 th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ahoma"/>
              </a:rPr>
              <a:t>th3y w1ll @rr3st y0u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86228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3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92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192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700"/>
                            </p:stCondLst>
                            <p:childTnLst>
                              <p:par>
                                <p:cTn id="3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200"/>
                            </p:stCondLst>
                            <p:childTnLst>
                              <p:par>
                                <p:cTn id="35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457200"/>
            <a:ext cx="2489040" cy="594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48292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48000" y="476280"/>
            <a:ext cx="2376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j@1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1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funn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200"/>
                            </p:stCondLst>
                            <p:childTnLst>
                              <p:par>
                                <p:cTn id="41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41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0"/>
                            </p:stCondLst>
                            <p:childTnLst>
                              <p:par>
                                <p:cTn id="42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25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200"/>
                            </p:stCondLst>
                            <p:childTnLst>
                              <p:par>
                                <p:cTn id="429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200"/>
                            </p:stCondLst>
                            <p:childTnLst>
                              <p:par>
                                <p:cTn id="433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700"/>
                            </p:stCondLst>
                            <p:childTnLst>
                              <p:par>
                                <p:cTn id="437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200"/>
                            </p:stCondLst>
                            <p:childTnLst>
                              <p:par>
                                <p:cTn id="441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700"/>
                            </p:stCondLst>
                            <p:childTnLst>
                              <p:par>
                                <p:cTn id="445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200"/>
                            </p:stCondLst>
                            <p:childTnLst>
                              <p:par>
                                <p:cTn id="449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7750"/>
                            </p:stCondLst>
                            <p:childTnLst>
                              <p:par>
                                <p:cTn id="45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750"/>
                            </p:stCondLst>
                            <p:childTnLst>
                              <p:par>
                                <p:cTn id="45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another nice atlantis release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greetings to all our friends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+++ no carrier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89323 -0.82084 E">
                                      <p:cBhvr>
                                        <p:cTn id="47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88212 0.77408 E">
                                      <p:cBhvr>
                                        <p:cTn id="48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700"/>
                            </p:stCondLst>
                            <p:childTnLst>
                              <p:par>
                                <p:cTn id="4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49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700"/>
                            </p:stCondLst>
                            <p:childTnLst>
                              <p:par>
                                <p:cTn id="49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200"/>
                            </p:stCondLst>
                            <p:childTnLst>
                              <p:par>
                                <p:cTn id="4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0.47899 0.72801 E">
                                      <p:cBhvr>
                                        <p:cTn id="49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549440"/>
            <a:ext cx="878544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1" lang="de-CH" sz="8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88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exit" presetID="5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33d tr0ub13z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441440"/>
            <a:ext cx="1003320" cy="198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12000" y="1441440"/>
            <a:ext cx="1090800" cy="1987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1245960" cy="198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812000" y="4292640"/>
            <a:ext cx="1094040" cy="1989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81080" y="-1900080"/>
            <a:ext cx="9721800" cy="107280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93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-114300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path" presetID="3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C 0.03143 0.06042 0.07778 0.12292 0.11563 0.14792 C 0.17223 0.18842 0.22657 0.20393 0.23733 0.18356 C 0.24584 0.16342 0.20764 0.11319 0.15122 0.07268 C 0.11337 0.04745 0.04427 0.03009 -0.01649 0.02754 C -0.07534 0.03009 -0.1467 0.04745 -0.18454 0.07268 C -0.24097 0.11319 -0.27882 0.16342 -0.2684 0.18356 C -0.25781 0.20393 -0.20347 0.18842 -0.14895 0.14792 C -0.11111 0.12292 -0.06302 0.06042 -0.03333 1.48148E-006 C -0.00208 -0.06296 0.01893 -0.14607 0.01893 -0.19884 C 0.01893 -0.27917 0.00452 -0.34144 -0.01649 -0.34144 C -0.03576 -0.34144 -0.05225 -0.27917 -0.05225 -0.19884 C -0.05225 -0.14607 -0.02934 -0.06296 -3.61111E-006 1.48148E-006 Z">
                                      <p:cBhvr>
                                        <p:cTn id="12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600"/>
                            </p:stCondLst>
                            <p:childTnLst>
                              <p:par>
                                <p:cTn id="129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600"/>
                            </p:stCondLst>
                            <p:childTnLst>
                              <p:par>
                                <p:cTn id="13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81080" y="-1827360"/>
            <a:ext cx="9650520" cy="10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-139536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0nc3 m0r3, 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4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5521 -1.65208 L -0.31042 0.122 C -0.30156 0.122 -0.29323 -0.07662 -0.2816 -0.07986 C -0.26667 -0.03842 -0.23768 0.33704 -0.22049 0.37014 C -0.20365 0.37014 -0.19219 0.11852 -0.17795 0.11852 C -0.15868 0.11852 -0.2434 -0.06134 -0.2066 -0.06134 L -0.07674 -0.08032 L -0.11771 0.23866 L -0.01458 0.122 L 0.04444 0.29051 L 0.08107 0.12084 C 0.1118 0.11713 0.07934 -0.03101 0.11007 -0.03726 C 0.12118 -0.03819 0.13472 0.15301 0.15156 0.15533 C 0.1684 0.15811 0.19496 -0.01435 0.20035 -0.01319 C 0.20937 -0.0081 0.21562 0.15811 0.22656 0.16088 L 0.27396 0.08102 L 0.95312 0.38125 E">
                                      <p:cBhvr>
                                        <p:cTn id="16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9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0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9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91960"/>
            <a:ext cx="8229600" cy="61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0w3rp0Int</a:t>
            </a: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ru1@z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5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209680" cy="575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3204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16360" y="504720"/>
            <a:ext cx="2879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D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133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Pr0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xit" presetID="53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17:55Z</dcterms:created>
  <dc:creator>powerpoint : robocop / music: maliktrey</dc:creator>
  <dc:description>;-)</dc:description>
  <dc:language>en-US</dc:language>
  <cp:lastModifiedBy>RBC</cp:lastModifiedBy>
  <dcterms:modified xsi:type="dcterms:W3CDTF">2005-08-16T04:12:34Z</dcterms:modified>
  <cp:revision>47</cp:revision>
  <dc:subject>buenzli powerpoint fun compo</dc:subject>
  <dc:title>atl-007-p0w3rp0Int ru1@z</dc:title>
</cp:coreProperties>
</file>